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1E15-1840-42C1-9DAE-0243180E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DB0-047D-4FF3-901F-E7ECC24F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E0A-2D07-4ED0-9FBD-9FD6AEF2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F87-B781-4E02-AC9C-D3123503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8D31-E461-4604-A4CA-22A66BE1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4D9-FC0A-46BB-8B2F-8F26C13A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0C6-23C2-4C2F-8018-5C1A0F6A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C61-AD70-4B40-B675-AF421680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69B-2232-47D6-A674-02E5651D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CBA2-B00F-4054-A47F-6158A73F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BC94-0DFB-4E7E-97C5-685C1C37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A16-B85F-4C8B-9E23-06251892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915E-E24E-4AC7-BD32-71BB1F55EA02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Calibration tools</a:t>
            </a:r>
            <a:br>
              <a:rPr sz="3600"/>
            </a:b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for water Cherenkov 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hoei NAKAYAMA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Aug 26, 2004 @ T2K collab.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8200" y="1484280"/>
            <a:ext cx="8067600" cy="51148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69080" y="600552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 Kea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Using fake Cherenkov-light generators is one pos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se the same system in 2km and 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mpare their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ring counting cali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38320" y="3409920"/>
            <a:ext cx="1366920" cy="503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49120" y="34639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47680" y="25448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er c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5960" y="350028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to pro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fake e-like 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729000">
            <a:off x="5479560" y="4200480"/>
            <a:ext cx="2174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6231600">
            <a:off x="5156280" y="4236120"/>
            <a:ext cx="86364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32280" y="4200480"/>
            <a:ext cx="79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32280" y="4195800"/>
            <a:ext cx="720720" cy="43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4737240" y="3984120"/>
            <a:ext cx="93636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0520" y="4210200"/>
            <a:ext cx="774720" cy="62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4158600">
            <a:off x="5372640" y="3012480"/>
            <a:ext cx="86328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277000">
            <a:off x="5695920" y="2976120"/>
            <a:ext cx="217440" cy="432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070600" y="2995560"/>
            <a:ext cx="657000" cy="44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089680" y="3385800"/>
            <a:ext cx="777600" cy="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978440" y="2800080"/>
            <a:ext cx="658800" cy="647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6880" y="3517920"/>
            <a:ext cx="933480" cy="9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82920" y="3440160"/>
            <a:ext cx="1589040" cy="163440"/>
          </a:xfrm>
          <a:custGeom>
            <a:avLst/>
            <a:gdLst/>
            <a:ahLst/>
            <a:rect l="l" t="t" r="r" b="b"/>
            <a:pathLst>
              <a:path w="1001" h="103">
                <a:moveTo>
                  <a:pt x="0" y="103"/>
                </a:moveTo>
                <a:cubicBezTo>
                  <a:pt x="30" y="83"/>
                  <a:pt x="68" y="76"/>
                  <a:pt x="103" y="67"/>
                </a:cubicBezTo>
                <a:cubicBezTo>
                  <a:pt x="129" y="50"/>
                  <a:pt x="158" y="51"/>
                  <a:pt x="188" y="43"/>
                </a:cubicBezTo>
                <a:cubicBezTo>
                  <a:pt x="299" y="47"/>
                  <a:pt x="411" y="59"/>
                  <a:pt x="522" y="49"/>
                </a:cubicBezTo>
                <a:cubicBezTo>
                  <a:pt x="621" y="29"/>
                  <a:pt x="720" y="19"/>
                  <a:pt x="819" y="0"/>
                </a:cubicBezTo>
                <a:cubicBezTo>
                  <a:pt x="857" y="3"/>
                  <a:pt x="895" y="12"/>
                  <a:pt x="934" y="12"/>
                </a:cubicBezTo>
                <a:cubicBezTo>
                  <a:pt x="956" y="12"/>
                  <a:pt x="1001" y="6"/>
                  <a:pt x="1001" y="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92640" y="3517920"/>
            <a:ext cx="1608120" cy="154080"/>
          </a:xfrm>
          <a:custGeom>
            <a:avLst/>
            <a:gdLst/>
            <a:ahLst/>
            <a:rect l="l" t="t" r="r" b="b"/>
            <a:pathLst>
              <a:path w="1013" h="91">
                <a:moveTo>
                  <a:pt x="0" y="91"/>
                </a:moveTo>
                <a:cubicBezTo>
                  <a:pt x="70" y="68"/>
                  <a:pt x="145" y="51"/>
                  <a:pt x="218" y="42"/>
                </a:cubicBezTo>
                <a:cubicBezTo>
                  <a:pt x="327" y="48"/>
                  <a:pt x="426" y="52"/>
                  <a:pt x="534" y="42"/>
                </a:cubicBezTo>
                <a:cubicBezTo>
                  <a:pt x="636" y="8"/>
                  <a:pt x="792" y="15"/>
                  <a:pt x="891" y="12"/>
                </a:cubicBezTo>
                <a:cubicBezTo>
                  <a:pt x="931" y="0"/>
                  <a:pt x="972" y="0"/>
                  <a:pt x="101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73560" y="3747960"/>
            <a:ext cx="1376280" cy="376200"/>
          </a:xfrm>
          <a:custGeom>
            <a:avLst/>
            <a:gdLst/>
            <a:ahLst/>
            <a:rect l="l" t="t" r="r" b="b"/>
            <a:pathLst>
              <a:path w="867" h="237">
                <a:moveTo>
                  <a:pt x="0" y="0"/>
                </a:moveTo>
                <a:cubicBezTo>
                  <a:pt x="24" y="16"/>
                  <a:pt x="32" y="39"/>
                  <a:pt x="61" y="49"/>
                </a:cubicBezTo>
                <a:cubicBezTo>
                  <a:pt x="95" y="75"/>
                  <a:pt x="130" y="90"/>
                  <a:pt x="170" y="103"/>
                </a:cubicBezTo>
                <a:cubicBezTo>
                  <a:pt x="182" y="107"/>
                  <a:pt x="206" y="115"/>
                  <a:pt x="206" y="115"/>
                </a:cubicBezTo>
                <a:cubicBezTo>
                  <a:pt x="279" y="106"/>
                  <a:pt x="352" y="91"/>
                  <a:pt x="424" y="79"/>
                </a:cubicBezTo>
                <a:cubicBezTo>
                  <a:pt x="468" y="84"/>
                  <a:pt x="514" y="88"/>
                  <a:pt x="558" y="97"/>
                </a:cubicBezTo>
                <a:cubicBezTo>
                  <a:pt x="574" y="100"/>
                  <a:pt x="590" y="104"/>
                  <a:pt x="606" y="109"/>
                </a:cubicBezTo>
                <a:cubicBezTo>
                  <a:pt x="618" y="113"/>
                  <a:pt x="643" y="121"/>
                  <a:pt x="643" y="121"/>
                </a:cubicBezTo>
                <a:cubicBezTo>
                  <a:pt x="674" y="144"/>
                  <a:pt x="708" y="167"/>
                  <a:pt x="746" y="176"/>
                </a:cubicBezTo>
                <a:cubicBezTo>
                  <a:pt x="762" y="187"/>
                  <a:pt x="800" y="200"/>
                  <a:pt x="800" y="200"/>
                </a:cubicBezTo>
                <a:cubicBezTo>
                  <a:pt x="814" y="213"/>
                  <a:pt x="832" y="222"/>
                  <a:pt x="849" y="231"/>
                </a:cubicBezTo>
                <a:cubicBezTo>
                  <a:pt x="855" y="234"/>
                  <a:pt x="867" y="237"/>
                  <a:pt x="867" y="23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06600" y="3807000"/>
            <a:ext cx="1398600" cy="403200"/>
          </a:xfrm>
          <a:custGeom>
            <a:avLst/>
            <a:gdLst/>
            <a:ahLst/>
            <a:rect l="l" t="t" r="r" b="b"/>
            <a:pathLst>
              <a:path w="881" h="248">
                <a:moveTo>
                  <a:pt x="0" y="0"/>
                </a:moveTo>
                <a:cubicBezTo>
                  <a:pt x="22" y="14"/>
                  <a:pt x="47" y="28"/>
                  <a:pt x="72" y="36"/>
                </a:cubicBezTo>
                <a:cubicBezTo>
                  <a:pt x="103" y="65"/>
                  <a:pt x="65" y="33"/>
                  <a:pt x="103" y="54"/>
                </a:cubicBezTo>
                <a:cubicBezTo>
                  <a:pt x="129" y="69"/>
                  <a:pt x="148" y="86"/>
                  <a:pt x="175" y="97"/>
                </a:cubicBezTo>
                <a:cubicBezTo>
                  <a:pt x="188" y="109"/>
                  <a:pt x="224" y="121"/>
                  <a:pt x="224" y="121"/>
                </a:cubicBezTo>
                <a:cubicBezTo>
                  <a:pt x="316" y="116"/>
                  <a:pt x="406" y="110"/>
                  <a:pt x="497" y="97"/>
                </a:cubicBezTo>
                <a:cubicBezTo>
                  <a:pt x="555" y="101"/>
                  <a:pt x="600" y="103"/>
                  <a:pt x="654" y="121"/>
                </a:cubicBezTo>
                <a:cubicBezTo>
                  <a:pt x="685" y="150"/>
                  <a:pt x="647" y="118"/>
                  <a:pt x="685" y="139"/>
                </a:cubicBezTo>
                <a:cubicBezTo>
                  <a:pt x="713" y="154"/>
                  <a:pt x="729" y="172"/>
                  <a:pt x="758" y="181"/>
                </a:cubicBezTo>
                <a:cubicBezTo>
                  <a:pt x="781" y="197"/>
                  <a:pt x="804" y="213"/>
                  <a:pt x="830" y="224"/>
                </a:cubicBezTo>
                <a:cubicBezTo>
                  <a:pt x="881" y="246"/>
                  <a:pt x="854" y="223"/>
                  <a:pt x="879" y="2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1880" y="2255400"/>
            <a:ext cx="1346400" cy="10810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192640" y="3479760"/>
            <a:ext cx="1656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600400">
            <a:off x="6516360" y="2203200"/>
            <a:ext cx="360360" cy="12952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4976640" y="4013280"/>
            <a:ext cx="1667160" cy="125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76640" y="4344840"/>
            <a:ext cx="1344960" cy="911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864600">
            <a:off x="6325920" y="4003200"/>
            <a:ext cx="360360" cy="12970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8600" y="4508640"/>
            <a:ext cx="487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The relative light streng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Arial"/>
              </a:rPr>
              <a:t>the opening angle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he two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change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45800" y="5516640"/>
            <a:ext cx="263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ed to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ecked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isting dete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e 2km WC detector should have much better calibration tools than K2K-1kt currently h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iducial volume calibr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 have some conceptual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imulation studies are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ing counting calibr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herenkov ring simulator is only one possibility at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urrent K2K-1kt calibr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19080" y="1413000"/>
            <a:ext cx="60292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ossibl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Laser ball (T cal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oint-like ligh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recis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ous positions (not only at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Xe ball (Q cal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uniform ligh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ore precise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ous positions (not only at ce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Laser injector (light scattering calib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various positions, directions, and wave-lengths (same as 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Cosmic ray pipe (vertex calib.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ff33cc"/>
                </a:solidFill>
                <a:latin typeface="Arial"/>
              </a:rPr>
              <a:t>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ominant systematic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7786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Fiducial volume (vertex fit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isappeara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number of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events is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00"/>
                </a:solidFill>
                <a:latin typeface="Arial"/>
              </a:rPr>
              <a:t>Ring 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disappear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ppearance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number of BG events to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signals, 1ring 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events, strongly depends on the ring coun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Fiducial volume cal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3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Calibration sourc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events ?  cosmic </a:t>
            </a:r>
            <a:r>
              <a:rPr b="0" lang="en-US" sz="2400" spc="-1" strike="noStrike">
                <a:solidFill>
                  <a:srgbClr val="ff99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even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3355920"/>
            <a:ext cx="720720" cy="2160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3355920"/>
            <a:ext cx="720720" cy="2160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1187280" y="335592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87280" y="5516640"/>
            <a:ext cx="36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223200">
            <a:off x="1788840" y="5076360"/>
            <a:ext cx="1079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4437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564000" y="3932280"/>
            <a:ext cx="11318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4437000"/>
            <a:ext cx="1150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99000" y="3922560"/>
            <a:ext cx="216000" cy="101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97800" y="278136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mi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62520" y="3789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n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2880" y="5734080"/>
            <a:ext cx="737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Cosmic </a:t>
            </a:r>
            <a:r>
              <a:rPr b="0" lang="en-US" sz="2400" spc="-1" strike="noStrike">
                <a:solidFill>
                  <a:srgbClr val="ff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 ev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</a:t>
            </a: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different event top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of neutrino events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icult to us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79640" y="3141720"/>
            <a:ext cx="43164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4076640"/>
            <a:ext cx="431640" cy="144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3213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3213000"/>
            <a:ext cx="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28960" y="2579760"/>
            <a:ext cx="311040" cy="2649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796760" y="4221000"/>
            <a:ext cx="407880" cy="10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33440" y="4221000"/>
            <a:ext cx="63216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570640" y="1619280"/>
            <a:ext cx="3394080" cy="2097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308720" y="141120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 black wall (curtain) + XY-segmented </a:t>
            </a:r>
            <a:r>
              <a:rPr b="0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23760" y="230508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 cur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0200" y="5264280"/>
            <a:ext cx="38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cc"/>
                </a:solidFill>
                <a:latin typeface="Arial"/>
              </a:rPr>
              <a:t>XY 2layerd, SciBar type, 3mx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887560"/>
            <a:ext cx="3600360" cy="2160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288756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5000" y="4327560"/>
            <a:ext cx="216000" cy="720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7080" y="3618000"/>
            <a:ext cx="244764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732000">
            <a:off x="5436720" y="3511440"/>
            <a:ext cx="360360" cy="100800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524480" y="3521160"/>
            <a:ext cx="1184040" cy="27288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3795840"/>
            <a:ext cx="1015920" cy="71280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00720" y="2671920"/>
            <a:ext cx="576000" cy="587160"/>
          </a:xfrm>
          <a:custGeom>
            <a:avLst/>
            <a:gdLst/>
            <a:ahLst/>
            <a:rect l="l" t="t" r="r" b="b"/>
            <a:pathLst>
              <a:path w="363" h="370">
                <a:moveTo>
                  <a:pt x="0" y="317"/>
                </a:moveTo>
                <a:cubicBezTo>
                  <a:pt x="105" y="343"/>
                  <a:pt x="211" y="370"/>
                  <a:pt x="272" y="317"/>
                </a:cubicBezTo>
                <a:cubicBezTo>
                  <a:pt x="333" y="264"/>
                  <a:pt x="348" y="53"/>
                  <a:pt x="363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4040280"/>
            <a:ext cx="1060200" cy="1295280"/>
          </a:xfrm>
          <a:custGeom>
            <a:avLst/>
            <a:gdLst/>
            <a:ahLst/>
            <a:rect l="l" t="t" r="r" b="b"/>
            <a:pathLst>
              <a:path w="771" h="817">
                <a:moveTo>
                  <a:pt x="771" y="0"/>
                </a:moveTo>
                <a:cubicBezTo>
                  <a:pt x="541" y="91"/>
                  <a:pt x="311" y="182"/>
                  <a:pt x="182" y="318"/>
                </a:cubicBezTo>
                <a:cubicBezTo>
                  <a:pt x="53" y="454"/>
                  <a:pt x="30" y="734"/>
                  <a:pt x="0" y="8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360828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367992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75300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382428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89556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19720" y="396864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404028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19720" y="411156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4184640"/>
            <a:ext cx="71280" cy="71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4255920"/>
            <a:ext cx="71280" cy="71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6920" y="3608280"/>
            <a:ext cx="73080" cy="7192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52760" y="249228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km WC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ide vi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06280" y="5877000"/>
            <a:ext cx="687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he location of the curtain determines 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vertex Z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Vertex X and 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re measured by the SciBar sheet det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26920" y="1916280"/>
            <a:ext cx="7561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etch a vinyl black sheet using hooks on the detector wall during water supply or during water drai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 scintillator bars. (3cm width, 100 horizontal, 100 verti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semble inside the tank after draining the detector water during beam-off periods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construct a support frame and arrange each p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ater-proof each p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ake data in a few Z po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1, 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tistical requiremen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(option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485720"/>
            <a:ext cx="878508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event rate of opt1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=~ 1/5 x event rate of </a:t>
            </a:r>
            <a:r>
              <a:rPr b="0" lang="ja-JP" sz="2000" spc="-1" strike="noStrike">
                <a:solidFill>
                  <a:srgbClr val="009900"/>
                </a:solidFill>
                <a:latin typeface="Symbol"/>
                <a:ea typeface="Symbol"/>
              </a:rPr>
              <a:t>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 int. in 100t f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=~ 0.02 ev / spill (wall position +300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estimated by M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eglecting inefficiency in trigger condition and event s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difference in vertex shift towards Z direction between data and MC should be below 8cm(=800cmx1%) to achieve 1% systematic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tatistical error on the peak position in the Z distribu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alibration data,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/ sqrt(N), should be below 8mm. (safety factor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N = 1400 ev  (assuming vertex resolution </a:t>
            </a:r>
            <a:r>
              <a:rPr b="0" lang="ja-JP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~ 30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 = 1400 / 0.02 ~ 70000spills ~ 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3days (@+300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      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ff9900"/>
                </a:solidFill>
                <a:latin typeface="Arial"/>
              </a:rPr>
              <a:t>4.5days (@-100cm), 6days (@-500cm)</a:t>
            </a: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0" lang="ja-JP" sz="1800" spc="-1" strike="noStrike">
                <a:solidFill>
                  <a:srgbClr val="ff33cc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ff33cc"/>
                </a:solidFill>
                <a:latin typeface="Arial"/>
              </a:rPr>
              <a:t> total 2we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statistical error on the X and Y position for this amount of calibration data </a:t>
            </a: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10cm/sqrt(1400) =~ 3mm   </a:t>
            </a:r>
            <a:r>
              <a:rPr b="0" lang="ja-JP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(2000+3)**2 / 2000**2 ~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403280" y="2268360"/>
            <a:ext cx="1366920" cy="31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86560" y="219708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43640" y="212400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73840" y="2629080"/>
            <a:ext cx="21744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30920" y="255744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3132000"/>
            <a:ext cx="2178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3060720"/>
            <a:ext cx="21564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89840" y="378144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6920" y="371016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8200" y="4429080"/>
            <a:ext cx="2178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5640" y="4357800"/>
            <a:ext cx="21564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3840" y="493236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0920" y="486108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586560" y="529272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522144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3840" y="219708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212400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1120" y="2629080"/>
            <a:ext cx="21780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38560" y="2557440"/>
            <a:ext cx="21564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25840" y="313200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82920" y="306072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97120" y="378144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54200" y="371016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5840" y="442908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2920" y="435780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1120" y="4932360"/>
            <a:ext cx="21780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38560" y="4861080"/>
            <a:ext cx="21564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93840" y="529272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522144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89120" y="248436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6200" y="241308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73120" y="313200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0200" y="306072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01840" y="370836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363708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73120" y="435600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0200" y="4284720"/>
            <a:ext cx="216000" cy="3585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89120" y="5005440"/>
            <a:ext cx="217440" cy="216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6200" y="4933800"/>
            <a:ext cx="216000" cy="35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69080" y="5589720"/>
            <a:ext cx="1224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Cas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79640" y="5877000"/>
            <a:ext cx="48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9900"/>
                </a:solidFill>
                <a:latin typeface="Arial"/>
              </a:rPr>
              <a:t>PMTs at the up- and down-stream fringes to identify event occurred in the Fid Vol.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2963880"/>
            <a:ext cx="1366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5680" y="292104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2160" y="162864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Ch light should be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16360"/>
            <a:ext cx="1366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670880" y="2886120"/>
            <a:ext cx="41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63800" y="162864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cc"/>
                </a:solidFill>
                <a:latin typeface="Arial"/>
              </a:rPr>
              <a:t>Ch light should not be de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33399"/>
                </a:solidFill>
                <a:latin typeface="Arial"/>
              </a:rPr>
              <a:t>Idea for fiducial volume calib.</a:t>
            </a:r>
            <a:r>
              <a:rPr b="0" lang="ja-JP" sz="2800" spc="-1" strike="noStrike">
                <a:solidFill>
                  <a:srgbClr val="333399"/>
                </a:solidFill>
                <a:latin typeface="Arial"/>
              </a:rPr>
              <a:t> (option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2:06:43Z</dcterms:created>
  <dc:creator>中山祥英</dc:creator>
  <dc:description/>
  <dc:language>en-US</dc:language>
  <cp:lastModifiedBy> kajita</cp:lastModifiedBy>
  <dcterms:modified xsi:type="dcterms:W3CDTF">2004-08-25T22:37:28Z</dcterms:modified>
  <cp:revision>6</cp:revision>
  <dc:subject/>
  <dc:title>Options for WC calibrations</dc:title>
</cp:coreProperties>
</file>